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EC1-2C2B-413B-96B7-9B0B7D2A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EAE-4FCC-46A2-B6B8-5B7C6BE4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EDC-4BA0-4A58-8C48-7C5E2927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B14-28DA-4BDA-9370-06DC2380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C94E-A8BF-45CB-9523-4A54688F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C7AC-9666-4D41-ABA3-FDB84C4B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E4DB-22FC-444D-B812-7DDAA4AB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9C71-E7D4-4CA4-A510-918907FA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3858-2DDA-4D8D-ABF5-1479FB9D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034F-8B14-47BB-AF01-E2875C49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2C91-617A-48D7-AE1D-9A4CB7DC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76E-A33B-4D9F-A283-56D8D602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AA72-DA9F-46C6-B0D2-1390CECA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3AC7-4236-4C96-8BDD-475E9514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FE10-F5D7-4B0D-892F-374A6DAE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E7D7-621B-493D-A5CE-89F33F38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D9EF-EC9F-4D71-88A4-7373A0DC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8CD-2625-47CD-B902-66BBF676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4DD-2696-4F49-BB54-04F479B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D26-DDB2-49F7-8117-16980C85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22C-8B7D-444E-99CF-EAB08A12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C3C-D8CE-42D0-B191-1AFEA082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4CF-5264-4016-BAE1-7FA88996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400-D3D8-4361-BEF9-9671AA7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1468-C09B-43A8-973F-074A07A456DE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C7DC-A5C7-472E-A52F-9852808D83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5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E6AD-5459-4D4F-B206-BBA68FD02FC6}" type="datetime">
              <a:rPr b="0" lang="fr-FR" sz="1400" spc="-1" strike="noStrike">
                <a:solidFill>
                  <a:srgbClr val="a083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5F05-27EE-426C-8FAD-8BB6D2069B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ritmindustry.com/" TargetMode="External"/><Relationship Id="rId4" Type="http://schemas.openxmlformats.org/officeDocument/2006/relationships/hyperlink" Target="https://web-japan.or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1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3"/>
          <p:cNvGrpSpPr/>
          <p:nvPr/>
        </p:nvGrpSpPr>
        <p:grpSpPr>
          <a:xfrm>
            <a:off x="3214800" y="3286080"/>
            <a:ext cx="237960" cy="382320"/>
            <a:chOff x="3214800" y="3286080"/>
            <a:chExt cx="237960" cy="382320"/>
          </a:xfrm>
        </p:grpSpPr>
        <p:sp>
          <p:nvSpPr>
            <p:cNvPr id="125" name="Oval 44"/>
            <p:cNvSpPr/>
            <p:nvPr/>
          </p:nvSpPr>
          <p:spPr>
            <a:xfrm>
              <a:off x="3215520" y="328608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26" name="AutoShape 45"/>
            <p:cNvCxnSpPr/>
            <p:nvPr/>
          </p:nvCxnSpPr>
          <p:spPr>
            <a:xfrm>
              <a:off x="3214800" y="337140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27" name="AutoShape 46"/>
            <p:cNvCxnSpPr/>
            <p:nvPr/>
          </p:nvCxnSpPr>
          <p:spPr>
            <a:xfrm flipH="1">
              <a:off x="3430800" y="3367080"/>
              <a:ext cx="21960" cy="252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28" name="Arc 47"/>
            <p:cNvSpPr/>
            <p:nvPr/>
          </p:nvSpPr>
          <p:spPr>
            <a:xfrm rot="5232600">
              <a:off x="3306600" y="353988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29" name="Group 43"/>
          <p:cNvGrpSpPr/>
          <p:nvPr/>
        </p:nvGrpSpPr>
        <p:grpSpPr>
          <a:xfrm>
            <a:off x="2857680" y="3571920"/>
            <a:ext cx="237960" cy="381960"/>
            <a:chOff x="2857680" y="3571920"/>
            <a:chExt cx="237960" cy="381960"/>
          </a:xfrm>
        </p:grpSpPr>
        <p:sp>
          <p:nvSpPr>
            <p:cNvPr id="130" name="Oval 44"/>
            <p:cNvSpPr/>
            <p:nvPr/>
          </p:nvSpPr>
          <p:spPr>
            <a:xfrm>
              <a:off x="2858400" y="3571920"/>
              <a:ext cx="23724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1" name="AutoShape 45"/>
            <p:cNvCxnSpPr/>
            <p:nvPr/>
          </p:nvCxnSpPr>
          <p:spPr>
            <a:xfrm>
              <a:off x="28576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32" name="AutoShape 46"/>
            <p:cNvCxnSpPr/>
            <p:nvPr/>
          </p:nvCxnSpPr>
          <p:spPr>
            <a:xfrm flipH="1">
              <a:off x="307368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33" name="Arc 47"/>
            <p:cNvSpPr/>
            <p:nvPr/>
          </p:nvSpPr>
          <p:spPr>
            <a:xfrm rot="5232600">
              <a:off x="29494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134" name="Rectangle 1"/>
          <p:cNvSpPr/>
          <p:nvPr/>
        </p:nvSpPr>
        <p:spPr>
          <a:xfrm>
            <a:off x="1000080" y="214200"/>
            <a:ext cx="7715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En comparant nos tests, nous pouvons proposer le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solutions technologiqu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suivantes pour résoudre notre problème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5" name="Image 42" descr="D:\philippe collège\B InSight\activité sismo proposition\avec caoutchouc.JPG"/>
          <p:cNvPicPr/>
          <p:nvPr/>
        </p:nvPicPr>
        <p:blipFill>
          <a:blip r:embed="rId1"/>
          <a:stretch/>
        </p:blipFill>
        <p:spPr>
          <a:xfrm>
            <a:off x="1428840" y="41432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36" name="Image 5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5214960" y="4143240"/>
            <a:ext cx="321480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43"/>
          <p:cNvGrpSpPr/>
          <p:nvPr/>
        </p:nvGrpSpPr>
        <p:grpSpPr>
          <a:xfrm>
            <a:off x="2143080" y="3571920"/>
            <a:ext cx="238320" cy="381960"/>
            <a:chOff x="2143080" y="3571920"/>
            <a:chExt cx="238320" cy="381960"/>
          </a:xfrm>
        </p:grpSpPr>
        <p:sp>
          <p:nvSpPr>
            <p:cNvPr id="138" name="Oval 44"/>
            <p:cNvSpPr/>
            <p:nvPr/>
          </p:nvSpPr>
          <p:spPr>
            <a:xfrm>
              <a:off x="2143800" y="3571920"/>
              <a:ext cx="237600" cy="163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cxnSp>
          <p:nvCxnSpPr>
            <p:cNvPr id="139" name="AutoShape 45"/>
            <p:cNvCxnSpPr/>
            <p:nvPr/>
          </p:nvCxnSpPr>
          <p:spPr>
            <a:xfrm>
              <a:off x="2143080" y="3657240"/>
              <a:ext cx="30600" cy="252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140" name="AutoShape 46"/>
            <p:cNvCxnSpPr/>
            <p:nvPr/>
          </p:nvCxnSpPr>
          <p:spPr>
            <a:xfrm flipH="1">
              <a:off x="2359440" y="3652560"/>
              <a:ext cx="21960" cy="251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  <p:sp>
          <p:nvSpPr>
            <p:cNvPr id="141" name="Arc 47"/>
            <p:cNvSpPr/>
            <p:nvPr/>
          </p:nvSpPr>
          <p:spPr>
            <a:xfrm rot="5232600">
              <a:off x="2234880" y="3825360"/>
              <a:ext cx="60840" cy="1868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2143080" y="1785960"/>
            <a:ext cx="1285920" cy="1928880"/>
            <a:chOff x="2143080" y="1785960"/>
            <a:chExt cx="1285920" cy="1928880"/>
          </a:xfrm>
        </p:grpSpPr>
        <p:sp>
          <p:nvSpPr>
            <p:cNvPr id="143" name="AutoShape 21"/>
            <p:cNvSpPr/>
            <p:nvPr/>
          </p:nvSpPr>
          <p:spPr>
            <a:xfrm>
              <a:off x="2143080" y="1785960"/>
              <a:ext cx="128592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44" name="Zone de texte 2"/>
            <p:cNvSpPr/>
            <p:nvPr/>
          </p:nvSpPr>
          <p:spPr>
            <a:xfrm>
              <a:off x="249876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45" name="Group 23"/>
            <p:cNvGrpSpPr/>
            <p:nvPr/>
          </p:nvGrpSpPr>
          <p:grpSpPr>
            <a:xfrm>
              <a:off x="2320920" y="2392200"/>
              <a:ext cx="571680" cy="807120"/>
              <a:chOff x="2320920" y="2392200"/>
              <a:chExt cx="571680" cy="807120"/>
            </a:xfrm>
          </p:grpSpPr>
          <p:sp>
            <p:nvSpPr>
              <p:cNvPr id="146" name="Rectangle 24"/>
              <p:cNvSpPr/>
              <p:nvPr/>
            </p:nvSpPr>
            <p:spPr>
              <a:xfrm>
                <a:off x="232092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7" name="Rectangle 25"/>
              <p:cNvSpPr/>
              <p:nvPr/>
            </p:nvSpPr>
            <p:spPr>
              <a:xfrm>
                <a:off x="232092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270180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270180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Freeform 48"/>
          <p:cNvSpPr/>
          <p:nvPr/>
        </p:nvSpPr>
        <p:spPr>
          <a:xfrm>
            <a:off x="557208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Freeform 48"/>
          <p:cNvSpPr/>
          <p:nvPr/>
        </p:nvSpPr>
        <p:spPr>
          <a:xfrm>
            <a:off x="6357960" y="3714840"/>
            <a:ext cx="376200" cy="3906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6715080" y="3357720"/>
            <a:ext cx="357120" cy="323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5643720" y="1785960"/>
            <a:ext cx="1285560" cy="1928880"/>
            <a:chOff x="5643720" y="1785960"/>
            <a:chExt cx="1285560" cy="1928880"/>
          </a:xfrm>
        </p:grpSpPr>
        <p:sp>
          <p:nvSpPr>
            <p:cNvPr id="154" name="AutoShape 21"/>
            <p:cNvSpPr/>
            <p:nvPr/>
          </p:nvSpPr>
          <p:spPr>
            <a:xfrm>
              <a:off x="5643720" y="1785960"/>
              <a:ext cx="1285560" cy="1928880"/>
            </a:xfrm>
            <a:prstGeom prst="cube">
              <a:avLst>
                <a:gd name="adj" fmla="val 25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sp>
          <p:nvSpPr>
            <p:cNvPr id="155" name="Zone de texte 2"/>
            <p:cNvSpPr/>
            <p:nvPr/>
          </p:nvSpPr>
          <p:spPr>
            <a:xfrm>
              <a:off x="5999400" y="3324960"/>
              <a:ext cx="263160" cy="3852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402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402000"/>
                </a:solidFill>
                <a:latin typeface="Arial"/>
              </a:endParaRPr>
            </a:p>
          </p:txBody>
        </p:sp>
        <p:grpSp>
          <p:nvGrpSpPr>
            <p:cNvPr id="156" name="Group 23"/>
            <p:cNvGrpSpPr/>
            <p:nvPr/>
          </p:nvGrpSpPr>
          <p:grpSpPr>
            <a:xfrm>
              <a:off x="5821560" y="2392200"/>
              <a:ext cx="571680" cy="807120"/>
              <a:chOff x="5821560" y="2392200"/>
              <a:chExt cx="571680" cy="807120"/>
            </a:xfrm>
          </p:grpSpPr>
          <p:sp>
            <p:nvSpPr>
              <p:cNvPr id="157" name="Rectangle 24"/>
              <p:cNvSpPr/>
              <p:nvPr/>
            </p:nvSpPr>
            <p:spPr>
              <a:xfrm>
                <a:off x="5821560" y="239220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5821560" y="28634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6202440" y="24026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6202440" y="2874240"/>
                <a:ext cx="190800" cy="325080"/>
              </a:xfrm>
              <a:prstGeom prst="rect">
                <a:avLst/>
              </a:pr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2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5"/>
          <p:cNvSpPr/>
          <p:nvPr/>
        </p:nvSpPr>
        <p:spPr>
          <a:xfrm>
            <a:off x="3214800" y="371484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15120" y="3786120"/>
            <a:ext cx="15508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28800" y="478620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A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28800" y="5786280"/>
            <a:ext cx="89208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âtiment B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66" name="Picture 5" descr="http://laurent.mougel1.free.fr/prevention_seismes_fichiers/amortisseur_01.jpg"/>
          <p:cNvPicPr/>
          <p:nvPr/>
        </p:nvPicPr>
        <p:blipFill>
          <a:blip r:embed="rId1"/>
          <a:stretch/>
        </p:blipFill>
        <p:spPr>
          <a:xfrm>
            <a:off x="1000080" y="2786040"/>
            <a:ext cx="3695760" cy="271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laurent.mougel1.free.fr/prevention_seismes_fichiers/amortisseur_02.jpg"/>
          <p:cNvPicPr/>
          <p:nvPr/>
        </p:nvPicPr>
        <p:blipFill>
          <a:blip r:embed="rId2"/>
          <a:stretch/>
        </p:blipFill>
        <p:spPr>
          <a:xfrm>
            <a:off x="5072040" y="2786040"/>
            <a:ext cx="3645000" cy="27147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110040" y="2071800"/>
            <a:ext cx="29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928800" y="5643720"/>
            <a:ext cx="79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3"/>
              </a:rPr>
              <a:t>http://ritmindustry.com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Source : </a:t>
            </a:r>
            <a:r>
              <a:rPr b="0" lang="fr-FR" sz="1200" spc="-1" strike="noStrike" u="sng">
                <a:solidFill>
                  <a:srgbClr val="9a7f32"/>
                </a:solidFill>
                <a:uFillTx/>
                <a:latin typeface="Arial"/>
                <a:ea typeface="Calibri"/>
                <a:hlinkClick r:id="rId4"/>
              </a:rPr>
              <a:t>https://web-japan.org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00080" y="19288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mortisseur parasismique en caoutchouc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2" name="Flèche vers le bas 9"/>
          <p:cNvSpPr/>
          <p:nvPr/>
        </p:nvSpPr>
        <p:spPr>
          <a:xfrm rot="12606000">
            <a:off x="2303280" y="3933360"/>
            <a:ext cx="285480" cy="10000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Flèche vers le bas 10"/>
          <p:cNvSpPr/>
          <p:nvPr/>
        </p:nvSpPr>
        <p:spPr>
          <a:xfrm rot="12606000">
            <a:off x="5803920" y="4076640"/>
            <a:ext cx="28584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00080" y="5716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Éléments de répons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17146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ans la réalité il faut aussi rendre le bâtiment plus rigid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76" name="Picture 2" descr="https://files1.structurae.de/files/photos/5256/2015-06-01/dsc06111.jpg"/>
          <p:cNvPicPr/>
          <p:nvPr/>
        </p:nvPicPr>
        <p:blipFill>
          <a:blip r:embed="rId1"/>
          <a:stretch/>
        </p:blipFill>
        <p:spPr>
          <a:xfrm>
            <a:off x="1428840" y="2643120"/>
            <a:ext cx="2786040" cy="3322800"/>
          </a:xfrm>
          <a:prstGeom prst="rect">
            <a:avLst/>
          </a:prstGeom>
          <a:ln w="0">
            <a:noFill/>
          </a:ln>
        </p:spPr>
      </p:pic>
      <p:pic>
        <p:nvPicPr>
          <p:cNvPr id="177" name="fancybox-img" descr="Renforcement sismique du collège de Dillon 1 - Fort-de-France (Martinique)"/>
          <p:cNvPicPr/>
          <p:nvPr/>
        </p:nvPicPr>
        <p:blipFill>
          <a:blip r:embed="rId2"/>
          <a:stretch/>
        </p:blipFill>
        <p:spPr>
          <a:xfrm>
            <a:off x="5429160" y="2643120"/>
            <a:ext cx="2500560" cy="3346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95640" y="2719800"/>
            <a:ext cx="47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28800" y="6000120"/>
            <a:ext cx="785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John Hancock Center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(© Nicolas Janberg,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Renforcement sismique du collège de Dillon 11 juin 2015,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 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(usage personnel/éducatif))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	</a:t>
            </a:r>
            <a:r>
              <a:rPr b="0" lang="fr-FR" sz="1200" spc="-1" strike="noStrike">
                <a:solidFill>
                  <a:srgbClr val="402000"/>
                </a:solidFill>
                <a:latin typeface="Arial"/>
                <a:ea typeface="Calibri"/>
              </a:rPr>
              <a:t>- Fort-de-France (Martinique)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00080" y="428760"/>
            <a:ext cx="77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écontextualisée</a:t>
            </a:r>
            <a:r>
              <a:rPr b="1" lang="fr-FR" sz="2400" spc="-1" strike="noStrike">
                <a:solidFill>
                  <a:srgbClr val="402000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Proposée par l’enseignant en classe de 6e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939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mage 1" descr=""/>
          <p:cNvPicPr/>
          <p:nvPr/>
        </p:nvPicPr>
        <p:blipFill>
          <a:blip r:embed="rId1"/>
          <a:stretch/>
        </p:blipFill>
        <p:spPr>
          <a:xfrm>
            <a:off x="3786120" y="4643280"/>
            <a:ext cx="2286000" cy="524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00080" y="1874520"/>
            <a:ext cx="7929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DIDIER Benjamin – TIRET Philip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fesseurs de Sciences et Technologi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llège Michelet TOUR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2000"/>
                </a:solidFill>
                <a:latin typeface="Arial"/>
              </a:rPr>
              <a:t>Académie Orléans-Tours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000080" y="64296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réalisée par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15 photos déchirantes avant et après montrent le ravage du séisme en Italie"/>
          <p:cNvPicPr/>
          <p:nvPr/>
        </p:nvPicPr>
        <p:blipFill>
          <a:blip r:embed="rId1"/>
          <a:stretch/>
        </p:blipFill>
        <p:spPr>
          <a:xfrm>
            <a:off x="1000080" y="1643040"/>
            <a:ext cx="777564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Image 7" descr="http://3.bp.blogspot.com/_CkL4BVApd3Q/S06q3B5qQyI/AAAAAAAABcE/SyCS7QrDsEk/s1600/Haiti_Palais-national_avant-et-apr%25C3%25A8s_seisme_AP-APF-et%2BBBC_130110.jpg"/>
          <p:cNvPicPr/>
          <p:nvPr/>
        </p:nvPicPr>
        <p:blipFill>
          <a:blip r:embed="rId2"/>
          <a:stretch/>
        </p:blipFill>
        <p:spPr>
          <a:xfrm>
            <a:off x="1000080" y="4071960"/>
            <a:ext cx="3857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928800" y="64440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Quel phénomène a pu provoquer cela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7500960" y="4000680"/>
            <a:ext cx="12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BoredPanda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857840" y="62874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Haïti: Palais national avant séisme et après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  <a:ea typeface="Calibri"/>
              </a:rPr>
              <a:t>Source :  AP, AFP, BBC, 13 janvier 2010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928800" y="1728720"/>
            <a:ext cx="792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classe entièr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pporter la réponse à la question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Compléter la fiche 1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1000080" y="2196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is, qu’ont inventé les ingénieur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our amortir les secousses sismiques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ur les bâtiments 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7" name="Picture 2" descr="Vue aérienne d'un immeuble effondré après le séisme du 20 septembre à Mexico"/>
          <p:cNvPicPr/>
          <p:nvPr/>
        </p:nvPicPr>
        <p:blipFill>
          <a:blip r:embed="rId1"/>
          <a:stretch/>
        </p:blipFill>
        <p:spPr>
          <a:xfrm>
            <a:off x="1428840" y="1643040"/>
            <a:ext cx="6715080" cy="4541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715000" y="6215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éisme du 20 septembre à Mexico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402000"/>
                </a:solidFill>
                <a:latin typeface="Arial"/>
              </a:rPr>
              <a:t>Source : Photo - AFP - Mario VAZQUEZ</a:t>
            </a:r>
            <a:endParaRPr b="0" lang="en-US" sz="9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000080" y="1936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1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eul, trouver une solution à la question en la représentant sous forme de croquis ou de schémas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000080" y="40770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ériode 2 (5 à 10 minutes) :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ar équipe, mettre en commun les solutions à la question en sélectionner un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8800" y="729000"/>
            <a:ext cx="7929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Séquence 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402000"/>
                </a:solidFill>
                <a:latin typeface="Arial"/>
              </a:rPr>
              <a:t>Séance 2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28800" y="1736280"/>
            <a:ext cx="7929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En Equip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onter la manipulation de la fiche 2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BATIMENT ET SEISME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Avec le matériel propos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Réaliser la solution proposée par l’équipe sur le bâtiment B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928800" y="7160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Matériel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4" name="Image 2" descr=""/>
          <p:cNvPicPr/>
          <p:nvPr/>
        </p:nvPicPr>
        <p:blipFill>
          <a:blip r:embed="rId1"/>
          <a:stretch/>
        </p:blipFill>
        <p:spPr>
          <a:xfrm>
            <a:off x="5929200" y="164304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 5" descr="D:\philippe collège\B InSight\activité sismo proposition\20190420_180909.jpg"/>
          <p:cNvPicPr/>
          <p:nvPr/>
        </p:nvPicPr>
        <p:blipFill>
          <a:blip r:embed="rId2"/>
          <a:stretch/>
        </p:blipFill>
        <p:spPr>
          <a:xfrm>
            <a:off x="1571760" y="1643040"/>
            <a:ext cx="2193840" cy="1589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06" name="Image 7" descr="D:\philippe collège\B InSight\activité sismo proposition\20190421_191725.jpg"/>
          <p:cNvPicPr/>
          <p:nvPr/>
        </p:nvPicPr>
        <p:blipFill>
          <a:blip r:embed="rId3"/>
          <a:stretch/>
        </p:blipFill>
        <p:spPr>
          <a:xfrm>
            <a:off x="3786120" y="1643040"/>
            <a:ext cx="2154240" cy="157788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7" name="Text Box 3"/>
          <p:cNvSpPr/>
          <p:nvPr/>
        </p:nvSpPr>
        <p:spPr>
          <a:xfrm>
            <a:off x="2571840" y="2928960"/>
            <a:ext cx="19476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2 blocs de béton cellulair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Image 10" descr=""/>
          <p:cNvPicPr/>
          <p:nvPr/>
        </p:nvPicPr>
        <p:blipFill>
          <a:blip r:embed="rId4"/>
          <a:stretch/>
        </p:blipFill>
        <p:spPr>
          <a:xfrm>
            <a:off x="1571760" y="3214800"/>
            <a:ext cx="221436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2643120" y="450072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Sabl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0" name="Image 11" descr="https://www.luxibio.com/880-large_default/pate-a-modeler-bio-cire-d-abeille.jpg"/>
          <p:cNvPicPr/>
          <p:nvPr/>
        </p:nvPicPr>
        <p:blipFill>
          <a:blip r:embed="rId5"/>
          <a:stretch/>
        </p:blipFill>
        <p:spPr>
          <a:xfrm>
            <a:off x="3786120" y="3214800"/>
            <a:ext cx="214308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286160" y="4500720"/>
            <a:ext cx="15512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âte à modeler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2" name="Image 13" descr=""/>
          <p:cNvPicPr/>
          <p:nvPr/>
        </p:nvPicPr>
        <p:blipFill>
          <a:blip r:embed="rId6"/>
          <a:stretch/>
        </p:blipFill>
        <p:spPr>
          <a:xfrm>
            <a:off x="5929200" y="3214800"/>
            <a:ext cx="2214720" cy="157140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429240" y="4500720"/>
            <a:ext cx="1677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bouchons caoutchouc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4" name="Image 16" descr="D:\philippe collège\B InSight\activité sismo proposition\P1010776.JPG"/>
          <p:cNvPicPr/>
          <p:nvPr/>
        </p:nvPicPr>
        <p:blipFill>
          <a:blip r:embed="rId7"/>
          <a:stretch/>
        </p:blipFill>
        <p:spPr>
          <a:xfrm>
            <a:off x="1571760" y="4786200"/>
            <a:ext cx="2214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5" name="Image 17" descr="D:\philippe collège\B InSight\activité sismo proposition\P1010777.JPG"/>
          <p:cNvPicPr/>
          <p:nvPr/>
        </p:nvPicPr>
        <p:blipFill>
          <a:blip r:embed="rId8"/>
          <a:stretch/>
        </p:blipFill>
        <p:spPr>
          <a:xfrm>
            <a:off x="3786120" y="4786200"/>
            <a:ext cx="1071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pic>
        <p:nvPicPr>
          <p:cNvPr id="116" name="Image 18" descr="D:\philippe collège\B InSight\activité sismo proposition\P1010778.JPG"/>
          <p:cNvPicPr/>
          <p:nvPr/>
        </p:nvPicPr>
        <p:blipFill>
          <a:blip r:embed="rId9"/>
          <a:stretch/>
        </p:blipFill>
        <p:spPr>
          <a:xfrm>
            <a:off x="4857840" y="4786200"/>
            <a:ext cx="107136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17" name="Text Box 3"/>
          <p:cNvSpPr/>
          <p:nvPr/>
        </p:nvSpPr>
        <p:spPr>
          <a:xfrm>
            <a:off x="2428920" y="6143760"/>
            <a:ext cx="130500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Plaquettes de boi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7196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Ressort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9" name="Picture 18" descr="Toron de 3 fils rigides 3G 2.5mm² 100m"/>
          <p:cNvPicPr/>
          <p:nvPr/>
        </p:nvPicPr>
        <p:blipFill>
          <a:blip r:embed="rId10"/>
          <a:stretch/>
        </p:blipFill>
        <p:spPr>
          <a:xfrm>
            <a:off x="5929200" y="4786200"/>
            <a:ext cx="2214720" cy="1643040"/>
          </a:xfrm>
          <a:prstGeom prst="rect">
            <a:avLst/>
          </a:prstGeom>
          <a:ln w="9360">
            <a:solidFill>
              <a:srgbClr val="402000"/>
            </a:solidFill>
            <a:miter/>
          </a:ln>
        </p:spPr>
      </p:pic>
      <p:sp>
        <p:nvSpPr>
          <p:cNvPr id="120" name="Text Box 4"/>
          <p:cNvSpPr/>
          <p:nvPr/>
        </p:nvSpPr>
        <p:spPr>
          <a:xfrm>
            <a:off x="6500880" y="6143760"/>
            <a:ext cx="15508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Fil de fer ou électrique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7072200" y="2928960"/>
            <a:ext cx="10191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402000"/>
                </a:solidFill>
                <a:latin typeface="Arial"/>
              </a:rPr>
              <a:t>Capteurs</a:t>
            </a:r>
            <a:endParaRPr b="0" lang="en-US" sz="1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071720" y="428760"/>
            <a:ext cx="771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02000"/>
                </a:solidFill>
                <a:latin typeface="Arial"/>
              </a:rPr>
              <a:t>Proposition de synthèse de l’activité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2000"/>
                </a:solidFill>
                <a:latin typeface="Arial"/>
              </a:rPr>
              <a:t>(A construire avec les élèves)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14280" y="2000160"/>
            <a:ext cx="757260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Lors de cette séance, 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recherché et proposé des idée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afin d’amortir une secousse sismique sur un bâtiment que nous avons représentée sous la forme d’un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roquis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Nous avons </a:t>
            </a:r>
            <a:r>
              <a:rPr b="0" i="1" lang="fr-FR" sz="2800" spc="-1" strike="noStrike" u="sng">
                <a:solidFill>
                  <a:srgbClr val="402000"/>
                </a:solidFill>
                <a:uFillTx/>
                <a:latin typeface="Arial"/>
                <a:ea typeface="Calibri"/>
              </a:rPr>
              <a:t>conçu et produit une maquette</a:t>
            </a:r>
            <a:r>
              <a:rPr b="0" i="1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 de la solution technologique que nous avons retenue</a:t>
            </a:r>
            <a:r>
              <a:rPr b="0" lang="fr-FR" sz="2800" spc="-1" strike="noStrike">
                <a:solidFill>
                  <a:srgbClr val="402000"/>
                </a:solidFill>
                <a:latin typeface="Arial"/>
                <a:ea typeface="Calibri"/>
              </a:rPr>
              <a:t>. 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3:59:41Z</dcterms:created>
  <dc:creator>PhT</dc:creator>
  <dc:description/>
  <dc:language>en-US</dc:language>
  <cp:lastModifiedBy>pht</cp:lastModifiedBy>
  <dcterms:modified xsi:type="dcterms:W3CDTF">2019-04-29T19:25:19Z</dcterms:modified>
  <cp:revision>186</cp:revision>
  <dc:subject/>
  <dc:title>SYNTHESE Recherche de solutions</dc:title>
</cp:coreProperties>
</file>